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02E-627F-47CD-9B5D-DDC812E6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27D0-2319-4ACC-BFFB-A076043B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9CE5-8711-46FA-98D0-31285C32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B9B0-5810-4EB3-B80E-29E78342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BD8D-C1D7-43F0-9D0B-8C8C4A4E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B470-1A22-45DC-857D-88373E58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C408-123E-4672-B372-7A061FD3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BA48-2777-46A7-AFD5-5481A77F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1729-7C91-450A-B6C5-686A93A0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AF1D-295E-42F7-9F59-BC313A96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65B3-73ED-4FAF-BD86-AA4CEAF7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6F0C-DD83-4F90-B899-128490A9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28DF-50A3-41F1-9E20-33ABF0D2E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corn.jpg"/>
          <p:cNvPicPr/>
          <p:nvPr/>
        </p:nvPicPr>
        <p:blipFill>
          <a:blip r:embed="rId1"/>
          <a:stretch/>
        </p:blipFill>
        <p:spPr>
          <a:xfrm>
            <a:off x="228600" y="228600"/>
            <a:ext cx="3429000" cy="2857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bananas.jpg"/>
          <p:cNvPicPr/>
          <p:nvPr/>
        </p:nvPicPr>
        <p:blipFill>
          <a:blip r:embed="rId2"/>
          <a:stretch/>
        </p:blipFill>
        <p:spPr>
          <a:xfrm>
            <a:off x="3809880" y="3200400"/>
            <a:ext cx="4953240" cy="3286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moneyJPG.JPG"/>
          <p:cNvPicPr/>
          <p:nvPr/>
        </p:nvPicPr>
        <p:blipFill>
          <a:blip r:embed="rId3"/>
          <a:stretch/>
        </p:blipFill>
        <p:spPr>
          <a:xfrm>
            <a:off x="304920" y="3429000"/>
            <a:ext cx="3381120" cy="3029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oins.jpg"/>
          <p:cNvPicPr/>
          <p:nvPr/>
        </p:nvPicPr>
        <p:blipFill>
          <a:blip r:embed="rId4"/>
          <a:stretch/>
        </p:blipFill>
        <p:spPr>
          <a:xfrm>
            <a:off x="4495680" y="304920"/>
            <a:ext cx="281952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4:23:53Z</dcterms:created>
  <dc:creator>2011ZalalaSt</dc:creator>
  <dc:description/>
  <dc:language>en-US</dc:language>
  <cp:lastModifiedBy>2011ZalalaSt</cp:lastModifiedBy>
  <dcterms:modified xsi:type="dcterms:W3CDTF">2010-06-01T14:31:02Z</dcterms:modified>
  <cp:revision>2</cp:revision>
  <dc:subject/>
  <dc:title>Slide 1</dc:title>
</cp:coreProperties>
</file>